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E05-0570-4E93-A14B-BCB067AC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E42-ABDC-4F9B-A1CC-9E189A5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BB9-8C4A-4538-8231-BAA00461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0E7-A5C9-4B7A-9879-876149A2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176-34BD-4132-BF20-C473F1C8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948-E16B-468C-A2BB-122DDF0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7EE-A324-4633-BEE8-6F3FA919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C2E-4068-411B-992D-762797A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C56-C76A-4D47-900E-988F967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FA8-E912-490E-991E-9C42DF3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131-FAE0-4E4A-B86A-77357F9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F38-8C8B-4E13-9522-78E5093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C10-1CE3-4B7E-9A25-E3A19BEED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宋体"/>
              </a:rPr>
              <a:t>Polly 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宋体"/>
              </a:rPr>
              <a:t>鹦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狗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蜥蜴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devo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都是朋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21337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4"/>
          <a:stretch/>
        </p:blipFill>
        <p:spPr>
          <a:xfrm>
            <a:off x="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去沙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一起吃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有一天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搬走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很伤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Teardrop 4"/>
          <p:cNvSpPr/>
          <p:nvPr/>
        </p:nvSpPr>
        <p:spPr>
          <a:xfrm rot="17677200">
            <a:off x="4490640" y="3593520"/>
            <a:ext cx="435240" cy="387360"/>
          </a:xfrm>
          <a:custGeom>
            <a:avLst/>
            <a:gdLst>
              <a:gd name="textAreaLeft" fmla="*/ 63720 w 435240"/>
              <a:gd name="textAreaRight" fmla="*/ 371520 w 435240"/>
              <a:gd name="textAreaTop" fmla="*/ 56520 h 387360"/>
              <a:gd name="textAreaBottom" fmla="*/ 330840 h 387360"/>
            </a:gdLst>
            <a:ahLst/>
            <a:rect l="textAreaLeft" t="textAreaTop" r="textAreaRight" b="textAreaBottom"/>
            <a:pathLst>
              <a:path w="434975" h="387350">
                <a:moveTo>
                  <a:pt x="0" y="193675"/>
                </a:moveTo>
                <a:lnTo>
                  <a:pt x="0" y="193675"/>
                </a:lnTo>
                <a:arcTo wR="217488" hR="193675" stAng="10800000" swAng="5400000"/>
                <a:lnTo>
                  <a:pt x="326231" y="0"/>
                </a:lnTo>
                <a:lnTo>
                  <a:pt x="434975" y="0"/>
                </a:lnTo>
                <a:lnTo>
                  <a:pt x="434975" y="145256"/>
                </a:lnTo>
                <a:arcTo wR="0" hR="48419" stAng="0" swAng="0"/>
                <a:lnTo>
                  <a:pt x="403125" y="358987"/>
                </a:lnTo>
                <a:arcTo wR="-108744" hR="96838" stAng="2501121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但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只是去市场而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在为派对买吃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又高兴起来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只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在派对上玩的很开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76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是只鹦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DSC07945.jpg"/>
          <p:cNvPicPr/>
          <p:nvPr/>
        </p:nvPicPr>
        <p:blipFill>
          <a:blip r:embed="rId1"/>
          <a:stretch/>
        </p:blipFill>
        <p:spPr>
          <a:xfrm>
            <a:off x="3352680" y="14479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名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三个哥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也有一个姐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喜欢饼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比狗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比蜥蜴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5-19T16:58:14Z</dcterms:modified>
  <cp:revision>7</cp:revision>
  <dc:subject/>
  <dc:title>Polly the Parrot</dc:title>
</cp:coreProperties>
</file>